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83A5-A8F3-4276-8A64-1D19CAB5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BB6A-AB35-4285-8EEE-88A7A4EA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0A74B-912D-472B-9057-5F942FCF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B889-DCDE-4050-AABF-189993E7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92D1-2CC7-44EB-A918-F0DC8278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A807-8672-4A71-A161-89C17530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D250-7C52-44D3-B2A8-1D2A195C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1790-941E-4860-8D42-85584923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69FB-F187-4D98-B20B-E35C64D9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4588-1233-4AC8-8623-75E79710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7D5E-E712-4A57-8BE5-B39A31E0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45C1-A008-482B-858E-96DBE1ED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5A8B-4DD8-49B7-B15F-16A1A3ED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4229-6E09-4986-8EB8-21199712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1DC7-CC7A-4FE8-A416-C0D8334C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0D17-C9AC-4096-A848-B87CB3F2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94BB-0DC2-401F-B0C4-A416020E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D3F2-2DAE-4776-AE9F-A7CCF9D5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83D8-5190-4DF8-9E5E-CD9C54A2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5358-E0AE-4376-A646-FFA32695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5B20-214E-4D6E-9C68-3CC0E244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8292-4B70-41D5-92DD-C8DBDDB2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2EF7-0945-4AD5-8197-9FDB5EAE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0DD4-1DFA-4A55-91A9-DBC55C11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A78A-AFF6-4E5A-A45E-BCF999A8E8B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D4DE-07EE-4462-9330-BB46045D588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45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00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Пред изгрев слънце ощ' семе сей, сей и когато на пладне то грей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й, докле денят се смее ощ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й семето н във тъмна нощ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й в тъмнината и във светли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га ей силен и кога см слаб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най, жетвата не е за тоз свя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з жетва ще е за вечност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Доброто семе как сееш ти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еш ли ти със сълзи на очи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нежни думи и с добри дел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л' утешаваш скръбни сърца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й в тъмнината и във светли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га ей силен и кога см слаб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най, жетвата не е за тоз свя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з жетва ще е за вечност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Где и да е, явно или в къ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всяко кюшенце и на кръстопъ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й семето тм във пек н в мраз! „Добре!" - ще чуеш от своя Спас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й в тъмнината и във светли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га ей силен и кога см слаб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най, жетвата не е за тоз свя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аз жетва ще е за вечност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7T16:41:58Z</dcterms:modified>
  <cp:revision>181</cp:revision>
  <dc:subject/>
  <dc:title>Slide 1</dc:title>
</cp:coreProperties>
</file>